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ct" ContentType="image/x-pict"/>
  <Override PartName="/ppt/media/image5.pct" ContentType="image/x-pict"/>
  <Override PartName="/ppt/media/image28.pct" ContentType="image/x-pict"/>
  <Override PartName="/ppt/media/image10.pct" ContentType="image/x-pict"/>
  <Override PartName="/ppt/media/image6.pct" ContentType="image/x-pict"/>
  <Override PartName="/ppt/media/image29.pct" ContentType="image/x-pict"/>
  <Override PartName="/ppt/media/image11.pct" ContentType="image/x-pict"/>
  <Override PartName="/ppt/media/image1.png" ContentType="image/png"/>
  <Override PartName="/ppt/media/image12.pct" ContentType="image/x-pict"/>
  <Override PartName="/ppt/media/image7.pct" ContentType="image/x-pict"/>
  <Override PartName="/ppt/media/image2.png" ContentType="image/png"/>
  <Override PartName="/ppt/media/image13.pct" ContentType="image/x-pict"/>
  <Override PartName="/ppt/media/image8.pct" ContentType="image/x-pict"/>
  <Override PartName="/ppt/media/image9.pct" ContentType="image/x-pict"/>
  <Override PartName="/ppt/media/image4.pct" ContentType="image/x-pict"/>
  <Override PartName="/ppt/media/image27.pct" ContentType="image/x-pict"/>
  <Override PartName="/ppt/media/image30.pct" ContentType="image/x-pict"/>
  <Override PartName="/ppt/media/image3.png" ContentType="image/png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media/image18.pct" ContentType="image/x-pict"/>
  <Override PartName="/ppt/media/image20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media/image23.pct" ContentType="image/x-pict"/>
  <Override PartName="/ppt/media/image24.pct" ContentType="image/x-pict"/>
  <Override PartName="/ppt/media/image2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F68-965E-4D86-B5B6-983B73D6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D54-1C01-4404-BF91-3FC78AEB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324-DB7B-4E69-AF01-20B59218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550-ED7B-4A8E-852E-A067C2F0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05CF-C0B9-4585-808E-159DE6D9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823D-D9B4-4972-B09A-586742F4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FCEA-7E43-4CCE-9A77-D59C7861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6D67-81DD-4F71-911F-C6D4A61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663F-35ED-46BB-8772-09FED72F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8BB9-BCF7-4AD6-924F-C961F1A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E3B0-430B-4490-BF15-D368BBE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0A1-0ADF-4643-86A8-7AD2D6D1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11C0-927A-4C10-A78D-CC7A5FFC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11B-4AF9-48FF-834E-92CDC71B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9741-A317-495F-8D3E-03F0C194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F28E-E9C1-4D68-A3D5-330758FF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9032-E78C-4E89-8AFF-082133D0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1C9-E0E5-46F9-B9F7-672F4F2B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0A9-63DB-4315-BBB4-A0E8FF0D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7F0-8B6D-4634-81EE-117CBF12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98C8-4CAC-4518-9BDE-C033CD8E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D2B-8341-4957-B1B8-CDC8ECB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6C7-409E-4DBB-A8C1-CB1FA023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19E-7C38-405E-950F-80642C8B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9C1A-B512-4A29-8BDB-781C9794ED2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CBDB-25FA-40EA-81B9-289A7FCCC40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LGEBRA 2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UNIT 1 TEST REVIE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AL NUMBERS AND EQUATION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N, W, I, 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1752480"/>
          <a:ext cx="34401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3440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14600" y="2362320"/>
          <a:ext cx="3651120" cy="28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65112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314880" y="2438280"/>
          <a:ext cx="27810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2438280"/>
                    <a:ext cx="27810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100" spc="-1" strike="noStrike">
                <a:solidFill>
                  <a:srgbClr val="330000"/>
                </a:solidFill>
                <a:latin typeface="Arial"/>
              </a:rPr>
              <a:t>Ir,R</a:t>
            </a:r>
            <a:endParaRPr b="0" lang="en-US" sz="171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1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-10 + 0 + 3 = -10 + 3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xyz is a real numb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0 = 7 + -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(a+8)=5(8+a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ty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osure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ers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utativ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 15 + -2) + 7 = 7 + (15 + -2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(x + 2) = 5x + 10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5x + 1) + 4 = 5x + (1 + 4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5257800"/>
          <a:ext cx="2971800" cy="55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257800"/>
                    <a:ext cx="29718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-8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utative of Additio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tributiv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sociativ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sociative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5(1)=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+b is a real numb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209680"/>
          <a:ext cx="220968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20968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62120" y="3581280"/>
          <a:ext cx="502920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50292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PERTI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verse of Multiplicatio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mutative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ty of Multipl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osure of Addi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895480"/>
          <a:ext cx="83120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83120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73280" y="2590920"/>
          <a:ext cx="339408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3280" y="2590920"/>
                    <a:ext cx="339408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312920" y="2773440"/>
          <a:ext cx="660060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2773440"/>
                    <a:ext cx="660060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90920" y="2743200"/>
          <a:ext cx="305424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743200"/>
                    <a:ext cx="305424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2133720"/>
          <a:ext cx="4572000" cy="22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4572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2209680"/>
          <a:ext cx="4572000" cy="33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209680"/>
                    <a:ext cx="457200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68520" y="2786040"/>
          <a:ext cx="631332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2786040"/>
                    <a:ext cx="631332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-8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00200" y="2133720"/>
          <a:ext cx="631332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631332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62040" y="2604960"/>
          <a:ext cx="81280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604960"/>
                    <a:ext cx="81280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2438280"/>
          <a:ext cx="8128080" cy="26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81280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62040" y="2604960"/>
          <a:ext cx="812808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2604960"/>
                    <a:ext cx="812808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015920" y="2133720"/>
          <a:ext cx="8128080" cy="36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133720"/>
                    <a:ext cx="8128080" cy="36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2120" y="2604960"/>
          <a:ext cx="838188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04960"/>
                    <a:ext cx="838188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2666880"/>
          <a:ext cx="83818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8381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how your check.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2666880"/>
          <a:ext cx="83818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83818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how your check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2362320"/>
          <a:ext cx="76960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62320"/>
                    <a:ext cx="76960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429000" y="2193840"/>
          <a:ext cx="304812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193840"/>
                    <a:ext cx="30481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2819520"/>
            <a:ext cx="5790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I, 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47920" y="2057400"/>
          <a:ext cx="7048440" cy="31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704844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743200" y="2362320"/>
          <a:ext cx="3301920" cy="8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62320"/>
                    <a:ext cx="33019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e for x.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905120" y="2209680"/>
          <a:ext cx="495288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09680"/>
                    <a:ext cx="495288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0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W, I, Q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2819520"/>
            <a:ext cx="5486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0000"/>
                </a:solidFill>
                <a:latin typeface="Arial"/>
              </a:rPr>
              <a:t>-9.2178…</a:t>
            </a:r>
            <a:endParaRPr b="0" lang="en-US" sz="8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330000"/>
                </a:solidFill>
                <a:latin typeface="Arial"/>
              </a:rPr>
              <a:t>Ir, R</a:t>
            </a:r>
            <a:endParaRPr b="0" lang="en-US" sz="150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L NUMBER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1960" y="2819520"/>
            <a:ext cx="464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52680" y="2209680"/>
          <a:ext cx="26542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09680"/>
                    <a:ext cx="2654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28:59Z</dcterms:created>
  <dc:creator>PA Department of Education</dc:creator>
  <dc:description/>
  <dc:language>en-US</dc:language>
  <cp:lastModifiedBy>PA Department of Education</cp:lastModifiedBy>
  <dcterms:modified xsi:type="dcterms:W3CDTF">2008-09-22T19:43:59Z</dcterms:modified>
  <cp:revision>10</cp:revision>
  <dc:subject/>
  <dc:title>ALGEBRA 2  UNIT 1 TEST REVIEW</dc:title>
</cp:coreProperties>
</file>